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2A7C-2A47-459A-B827-A4E108338BA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B564-84DE-4780-B5CD-86D969C8D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985680" y="741240"/>
            <a:ext cx="4886640" cy="3665520"/>
          </a:xfrm>
          <a:prstGeom prst="rect">
            <a:avLst/>
          </a:prstGeom>
          <a:ln w="0">
            <a:noFill/>
          </a:ln>
        </p:spPr>
      </p:sp>
      <p:sp>
        <p:nvSpPr>
          <p:cNvPr id="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53CD-C89F-40CF-B40C-7C73C2151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985680" y="741240"/>
            <a:ext cx="4886640" cy="3665520"/>
          </a:xfrm>
          <a:prstGeom prst="rect">
            <a:avLst/>
          </a:prstGeom>
          <a:ln w="0">
            <a:noFill/>
          </a:ln>
        </p:spPr>
      </p:sp>
      <p:sp>
        <p:nvSpPr>
          <p:cNvPr id="8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E027-FD92-48A5-B7EC-E82533151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985680" y="741240"/>
            <a:ext cx="4886640" cy="3665520"/>
          </a:xfrm>
          <a:prstGeom prst="rect">
            <a:avLst/>
          </a:prstGeom>
          <a:ln w="0">
            <a:noFill/>
          </a:ln>
        </p:spPr>
      </p:sp>
      <p:sp>
        <p:nvSpPr>
          <p:cNvPr id="8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699C-51B3-4CF8-89F0-F29BDE4F6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985680" y="741240"/>
            <a:ext cx="4886640" cy="3665520"/>
          </a:xfrm>
          <a:prstGeom prst="rect">
            <a:avLst/>
          </a:prstGeom>
          <a:ln w="0">
            <a:noFill/>
          </a:ln>
        </p:spPr>
      </p:sp>
      <p:sp>
        <p:nvSpPr>
          <p:cNvPr id="8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910A-D4AE-48BB-A6F9-E367BD70F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985680" y="741240"/>
            <a:ext cx="4886640" cy="3665520"/>
          </a:xfrm>
          <a:prstGeom prst="rect">
            <a:avLst/>
          </a:prstGeom>
          <a:ln w="0">
            <a:noFill/>
          </a:ln>
        </p:spPr>
      </p:sp>
      <p:sp>
        <p:nvSpPr>
          <p:cNvPr id="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5DDD-3023-4835-8A0F-B62F70061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A4FF-4BB3-48A5-8126-0F8E43A12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DC5A-4F65-41CE-8D0B-E9CBBF192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B1ED-FC4A-4FCD-B62B-5B24B2A53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07A6-0A01-4C5F-BF61-4A51AF31A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DFF9-039D-4026-B169-5889DE28E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985680" y="741240"/>
            <a:ext cx="4886640" cy="3665520"/>
          </a:xfrm>
          <a:prstGeom prst="rect">
            <a:avLst/>
          </a:prstGeom>
          <a:ln w="0">
            <a:noFill/>
          </a:ln>
        </p:spPr>
      </p:sp>
      <p:sp>
        <p:nvSpPr>
          <p:cNvPr id="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59A39-B42A-4F71-8CD0-0B22C9D30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CBD6-2073-480F-B2D6-7CFD7300F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85B1-76C3-4A3D-B5A4-038A2BBB2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3702-13CB-4355-904D-AF9A006D5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B4B5-2F9E-40AB-BE24-C391E5920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37A0-0A0F-4019-B73A-23046F88A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CCFC-FAA6-454B-B558-BEE697107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B785-95F4-474C-867B-226532BCD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F07F-D8FE-42C0-B070-0DDF86C42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7A6E-1DB4-404E-9004-D591FA88A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5D07-623D-44FD-8070-0956E9BCC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985680" y="741240"/>
            <a:ext cx="4886640" cy="3665520"/>
          </a:xfrm>
          <a:prstGeom prst="rect">
            <a:avLst/>
          </a:prstGeom>
          <a:ln w="0">
            <a:noFill/>
          </a:ln>
        </p:spPr>
      </p:sp>
      <p:sp>
        <p:nvSpPr>
          <p:cNvPr id="8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048A-1C27-4B0E-8EB4-20A1509C0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PlaceHolder 1"/>
          <p:cNvSpPr>
            <a:spLocks noGrp="1"/>
          </p:cNvSpPr>
          <p:nvPr>
            <p:ph type="sldImg"/>
          </p:nvPr>
        </p:nvSpPr>
        <p:spPr>
          <a:xfrm>
            <a:off x="985680" y="741240"/>
            <a:ext cx="4886640" cy="3665520"/>
          </a:xfrm>
          <a:prstGeom prst="rect">
            <a:avLst/>
          </a:prstGeom>
          <a:ln w="0">
            <a:noFill/>
          </a:ln>
        </p:spPr>
      </p:sp>
      <p:sp>
        <p:nvSpPr>
          <p:cNvPr id="8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E998-6677-4580-8414-DAB06B4DA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985680" y="741240"/>
            <a:ext cx="4886640" cy="3665520"/>
          </a:xfrm>
          <a:prstGeom prst="rect">
            <a:avLst/>
          </a:prstGeom>
          <a:ln w="0">
            <a:noFill/>
          </a:ln>
        </p:spPr>
      </p:sp>
      <p:sp>
        <p:nvSpPr>
          <p:cNvPr id="8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3D2F-CCEA-40B4-B9C6-D311A0EE0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985680" y="741240"/>
            <a:ext cx="4886640" cy="3665520"/>
          </a:xfrm>
          <a:prstGeom prst="rect">
            <a:avLst/>
          </a:prstGeom>
          <a:ln w="0">
            <a:noFill/>
          </a:ln>
        </p:spPr>
      </p:sp>
      <p:sp>
        <p:nvSpPr>
          <p:cNvPr id="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0C9B-F619-4CA1-9BAE-7892E70ED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985680" y="741240"/>
            <a:ext cx="4886640" cy="3665520"/>
          </a:xfrm>
          <a:prstGeom prst="rect">
            <a:avLst/>
          </a:prstGeom>
          <a:ln w="0">
            <a:noFill/>
          </a:ln>
        </p:spPr>
      </p:sp>
      <p:sp>
        <p:nvSpPr>
          <p:cNvPr id="8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6D16-C28C-4384-84BD-909E1EB77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985680" y="741240"/>
            <a:ext cx="4886640" cy="3665520"/>
          </a:xfrm>
          <a:prstGeom prst="rect">
            <a:avLst/>
          </a:prstGeom>
          <a:ln w="0">
            <a:noFill/>
          </a:ln>
        </p:spPr>
      </p:sp>
      <p:sp>
        <p:nvSpPr>
          <p:cNvPr id="8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DBC2-75CC-487F-9BED-27E5ABD98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85680" y="741240"/>
            <a:ext cx="4886640" cy="3665520"/>
          </a:xfrm>
          <a:prstGeom prst="rect">
            <a:avLst/>
          </a:prstGeom>
          <a:ln w="0">
            <a:noFill/>
          </a:ln>
        </p:spPr>
      </p:sp>
      <p:sp>
        <p:nvSpPr>
          <p:cNvPr id="8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8B924-8635-425B-BE26-69D175D3F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99DCB-8DAA-4E85-9BDB-B5E497A2B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680CCA-4C0E-42DB-898E-20F8CA7122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D5AD05-2CCF-4F94-93A9-62CA1CB73C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7DC91A-DE58-46EF-AD5D-41120559A0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7E7878-8701-48B8-8E98-DF3331068F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CC7347-35BF-428A-9630-8D7D99BDA3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23B8B4-E601-4EE4-99B5-8FD312E785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F96418-FE9B-4496-BAA4-0A336C509F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90C8B4-BBA8-4734-A2E6-DCEE57B7DA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FF6DA0-9C3C-4F8C-9B4F-F70956A2AC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9091A1B-215A-4DC6-A596-53D582D74B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38549-B2F0-40A3-AE3C-7BBF7398B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C69157-22A9-4A81-A49C-E0E74F0153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49D367-14EF-4EBD-8FC1-6FDE317FA6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1B7ADD-117F-469A-ACF3-9410B43A52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E33007-287E-4FB9-B055-F6279FC8AF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DA0E4B-F791-41BF-8823-D72160A8DD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6696C0-7E46-4AC8-B7E0-AB5C63FF2E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2F69B2-F1C5-4CF3-B3BE-590E309A38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3C961A-5252-4F23-8067-D433831901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E1032B-49DE-4D80-9FCD-1831C7E14B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55353C-200A-46F0-90B9-902CB297ED1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B9843-8A22-4365-B8A4-18BF3ABEA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15FB114-F96B-437A-BEB5-469811E65D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9181B2-1DDF-430E-B50E-121B020318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96375B-DB63-4577-9E38-E8514F0D64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A8D40D-7965-44BB-8FD7-4A53A93371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6B43AD-14A3-4A1A-956C-67A3B6988C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3774E6-8621-468D-82B8-FDBCA1E0E8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0DB3BD-1616-4B75-897F-DC52CEF9E0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DCEC1B-01E6-4777-93BE-CB54640F93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3B3E5C-A500-4A68-8DCD-EF2B05D1CD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C9F364-3B3A-4CDD-BE71-CCFE2EC6C7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AAC85-633A-452F-99C9-83ADBE587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D3CC3B-77AB-4EF8-A7FC-DC1915090C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1A26C79-C1BC-4EDD-BE63-9F7CC4CE3A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12B428-2625-4F93-AEB8-653CED3DEAA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65DA8E2-F946-499B-BAE8-C9725D4F71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9B9818-3D5A-4EAB-9E4F-2655970399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68CFB8-DFE8-4CA0-880C-F0871A5771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C6C64B-6D3D-498F-B2EC-804B37DE9D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07057D-9F77-4920-A630-A7C34AD7AC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C4C332-BA22-460B-BC65-4DFBFFF0CF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41BC20-AC43-47FB-B8C1-BD6AC440EC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9A475-48A0-4DAA-BEA3-D626CD0A3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CAB401-66B8-4899-BB8A-729C732F86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713144-6A3A-4C3A-ADD8-DF85B55B6C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BE8718-EECD-42C5-A284-7C20501CA5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35F29EE-F65F-4392-B053-06047C4297A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7DC8808-4DDC-463D-B67B-73AC94BF5A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E1C22168-D2C8-4F44-903C-D44FE114EC2C}"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2CF274F7-F2B5-4E06-9CD9-FF89267EB1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30D57455-6B1F-4594-B6BA-4A57BCE217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0E93688A-5E31-4588-B5F3-E90C10614A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7ED7435D-F986-4D88-92B2-8A3979D36B2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72912-3930-453F-B25A-75594269F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F5A3525B-EE17-473F-9372-91038806BBE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02657A6-36C1-4CD5-BB3A-4EBADF3267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476DF7D-8BE8-455F-9A9F-7E9FBF3D8E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F5D100D-6741-410C-991A-B019D40614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509F4F5B-70A7-4DEC-9B31-2E0B873D306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ED6C04DB-18C0-49BE-88DD-425B023985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30124F1E-C193-47B3-A010-C76CFBC97AC3}"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99785-48B2-42C9-8697-853930E17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CBB08-5590-431D-A0C5-21436B643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3C146-7C3E-44E9-9E7F-3082A941B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ED921-6E78-4318-A5E5-A145F8A4B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356F0-D198-4AC0-8E02-4DAD486E8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62616-784B-40F9-8C26-00D7432F8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B4CD2-7675-4423-BE09-FEBAB0979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B464A-5A4D-4DD1-9F23-0B7B84424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162F8-455E-4FEB-A59C-99B8A6BF3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6CC8C-EEB2-404C-82DF-52C56D398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79482C-296A-4380-AC45-3B16EBBC02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DDA1AE-BC82-4BE1-9635-45162235C8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8C86FF-8373-4E30-B1AA-14703BFA4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82F0DA-3760-464C-8408-B9349CC276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9A4D0C-6388-4220-B073-477981A03F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C2883-C1F5-4DB7-BC00-795DB0C74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494728-38F0-4952-AC22-2C31986A61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4E15B2-AAB8-49AF-8E3E-5905ABD83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34FFF-4D68-4756-BD39-92ACF94C5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6651E-AC30-49B9-BA23-6E1634E2A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0FD0FB-691D-46DC-97DE-19586939F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335645-859D-4BB9-9E05-28C635F1EF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6A1138-C5B7-4032-AFB4-7375F955C1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946B6E-E566-41AB-870C-828EB94900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FCAE5B-D72C-4B7A-B67D-C83298BD3B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81E2F6-6788-44DE-9445-41B2350C91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18688-7D1C-40D2-B792-A31091910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3CA30F-4D48-4269-AB3D-7806899593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5CC0D-98B7-43E3-88B4-13B6F15973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CBC35D-4CF8-4810-A3AF-6BB462424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F24B9-C805-4D6C-878D-5C359940F2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56F96-D753-466F-9850-B4AE152E7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A0D7E-C690-4AC6-88C9-93C5BDE6A0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F02C60-BA5B-4AE3-8EF9-F142229901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1B0FD1-89A9-4DF9-B963-3FBAFF179C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825881-4005-4F8E-AFD8-E03B03F1E4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952973-0C18-4971-AB09-B686F1EBDA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21B39-1470-4911-9188-24022CBBF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B8240A-F740-452A-BA13-306B59719A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52533E-769C-40E6-9377-9853DD1015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490508-C2BA-49C1-82BC-80F937AC2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7EC41C-5B99-4023-82A7-EE88F0DC8C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84DC03-926B-4878-B45A-4E17F4B16D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552690-C201-4CCB-AFCD-E15E7A4AB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83377-60EB-4EAE-A142-7EB5327C94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1B4E7-2A5A-474B-A2FE-BBF5E07838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5581CF-609F-49CD-A470-245ACED920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B0CD8A-AAC8-41BB-A012-5EC7B0B08F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45DC1-05A1-4013-A952-51B04AB73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CE56F6-7F5B-41AC-BBFB-B36DE1BEF4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206636-06C9-4CBB-9CB1-E45442EADE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906E53-6CCD-4C40-B5C9-E36E380467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878AA9-4E57-497A-9A17-5E685B803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7211E2-2948-4F89-8A73-3DA54E6BD7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8FBFCC-F27E-4D6C-A2E0-DAD81E0AF4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D373FB-F44F-4B45-96FC-580C82F26E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AFFD0F-3E2E-4358-8465-888013BA3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20602B-FA2A-4AAA-A66E-95A0172A22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8356CF-BF6D-464E-91D2-D76D0170F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5528E-867F-49CE-9681-50245BB01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C49344-F160-4529-B005-18288E9834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44A4BC-92FA-406F-9F8C-1B51A5FCF0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F61BB1-016A-492F-9D3F-2A62DB4605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520873-989A-4663-957E-76F15D4B70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57FCDB-140B-46B0-B923-E0CB4FE494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D67F94-D7C6-4A72-AA03-5255CB8C59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892636-2C98-4401-A37A-E041894941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438100-7CF8-4284-A4DF-902D882FDC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EC96E1-F284-46C4-94ED-D338183AD8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81F842-7002-4A76-91CD-4AF68EFFAA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183B-7717-4790-BA8B-26BEDF521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8B67AC-FC23-492A-82AD-9A6C307C41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52C59-3873-4A6C-8658-E6766BDC7C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03EAEF-C1E3-4B03-989C-F40588F633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A10C83-94FA-403C-8A0D-8D06CC41EB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D783C3-B93A-45DE-88A9-FA26DD77E4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F57B48-4245-40AE-B023-A9E09F18FE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8DE7D4-2E15-4862-9409-8653269CCF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E91D9E-7A10-4285-8F47-8EBA40B161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F15E07-6CAB-47DD-9FCA-988E9E155A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5AA55A-ED5C-4778-AD4C-EAC20FE92F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2DB74-924E-4EB1-9A1E-DA030CB6F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62A16C-C914-47DB-861F-A099B1A582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DE1978-815A-452D-A538-EC823AF059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4D4F17-B00C-4855-8843-E31D854BF7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9BED43-D536-4E61-B8C4-B6B70A6696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857D4C-3B21-48E6-9ADA-288C350E43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B0CFF0-96E9-421B-BA6C-9A0F759DB9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CCD25E-BF1E-46E6-9379-508A39EAE6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E59DDC-E924-4EF2-923D-5B1F066CF0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9472F5-5FE5-4C08-B965-6F39EDA3AC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29CD80-D109-438E-8842-6CECBCF3D5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0422-1AF7-495F-AC4D-B63ABD16052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C7E1-C5AD-4577-8348-266CC39D077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9624-22D6-4493-8134-F377E1FE22F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58FD-858A-4A67-BC3E-8947379EE9B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97B0-2989-4EAA-A92D-906E3A5800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D0B8-FA71-424E-B450-4F58A77A5AA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5B8D-4B8F-4B55-ACAB-7632BF407C2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EB51-413C-4236-866E-940079AC4C7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A005-AE3F-45C8-95F9-8D1531DB302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614B-BFDA-4E69-BF22-2B812230BE4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DCE8-D355-4C50-8F12-FAB6D46FAB4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FCFE-7FFB-4A88-8305-885B2606620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5C9A-AF29-4E3C-A822-CC623682130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ς θετικά  στοιχεία καταγράφουν την αμοιβαία ανάπτυξη κοινωνικών δεξιοτήτων για τους μαθητές με και χωρίς αναπηρία και την ανάπτυξη της προσαρμοστικής συμπεριφοράς για τα παιδιά με αναπηρία,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a:t>
            </a:r>
            <a:br>
              <a:rPr sz="2800"/>
            </a:br>
            <a:r>
              <a:rPr b="0" lang="el-GR" sz="2800" spc="-1" strike="noStrike">
                <a:solidFill>
                  <a:srgbClr val="000000"/>
                </a:solidFill>
                <a:latin typeface="Times New Roman"/>
              </a:rPr>
              <a:t>&amp; </a:t>
            </a:r>
            <a:r>
              <a:rPr b="0" lang="en-US" sz="2800" spc="-1" strike="noStrike">
                <a:solidFill>
                  <a:srgbClr val="000000"/>
                </a:solidFill>
                <a:latin typeface="Times New Roman"/>
              </a:rPr>
              <a:t>Patsiaouras</a:t>
            </a:r>
            <a:r>
              <a:rPr b="0" lang="el-GR" sz="2800" spc="-1" strike="noStrike">
                <a:solidFill>
                  <a:srgbClr val="000000"/>
                </a:solidFill>
                <a:latin typeface="Times New Roman"/>
              </a:rPr>
              <a:t>, 2008).</a:t>
            </a:r>
            <a:br>
              <a:rPr sz="2800"/>
            </a:b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  τα  θετικά  αποτελέσματα  των  παραπάνω  ερευνών,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κατέληξε ότι οι γονείς των μαθητών με αναπηρίες εμφανίζουν αντιφατικές απόψεις απέναντι στην συμπερίληψη. </a:t>
            </a:r>
            <a:br>
              <a:rPr sz="2800"/>
            </a:br>
            <a:r>
              <a:rPr b="0" lang="el-GR" sz="2800" spc="-1" strike="noStrike">
                <a:solidFill>
                  <a:srgbClr val="000000"/>
                </a:solidFill>
                <a:latin typeface="Times New Roman"/>
              </a:rPr>
              <a:t>Κάποιοι προτιμούσαν να φοιτούν τα παιδιά τους στο γενικό πλαίσιο, ενώ άλλοι θεωρούσαν καλύτερα τα ειδικά σχολεία, όπου τα παιδιά τους μπορούσαν να λάβουν πιο εξειδικευμένη βοήθεια.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ό σε αυτήν την έρευνα είναι ότι ορισμένοι  γονείς  που  αρχικά  είχαν  τοποθετηθεί  θετικά  απέναντι  στη  συμπερίληψη  </a:t>
            </a:r>
            <a:br>
              <a:rPr sz="2800"/>
            </a:br>
            <a:r>
              <a:rPr b="0" lang="el-GR" sz="2800" spc="-1" strike="noStrike">
                <a:solidFill>
                  <a:srgbClr val="000000"/>
                </a:solidFill>
                <a:latin typeface="Times New Roman"/>
              </a:rPr>
              <a:t>στην πορεία μετατοπίστηκαν </a:t>
            </a:r>
            <a:br>
              <a:rPr sz="2800"/>
            </a:br>
            <a:r>
              <a:rPr b="0" lang="el-GR" sz="2800" spc="-1" strike="noStrike">
                <a:solidFill>
                  <a:srgbClr val="000000"/>
                </a:solidFill>
                <a:latin typeface="Times New Roman"/>
              </a:rPr>
              <a:t>εξαιτίας εμποδίων στην υλοποίησή της, </a:t>
            </a:r>
            <a:br>
              <a:rPr sz="2800"/>
            </a:br>
            <a:r>
              <a:rPr b="0" lang="el-GR" sz="2800" spc="-1" strike="noStrike">
                <a:solidFill>
                  <a:srgbClr val="000000"/>
                </a:solidFill>
                <a:latin typeface="Times New Roman"/>
              </a:rPr>
              <a:t>όπως η καταλληλότητα των σχολικών χώρων, </a:t>
            </a:r>
            <a:br>
              <a:rPr sz="2800"/>
            </a:br>
            <a:r>
              <a:rPr b="0" lang="el-GR" sz="2800" spc="-1" strike="noStrike">
                <a:solidFill>
                  <a:srgbClr val="000000"/>
                </a:solidFill>
                <a:latin typeface="Times New Roman"/>
              </a:rPr>
              <a:t>η έλλειψη πόρων, </a:t>
            </a:r>
            <a:br>
              <a:rPr sz="2800"/>
            </a:br>
            <a:r>
              <a:rPr b="0" lang="el-GR" sz="2800" spc="-1" strike="noStrike">
                <a:solidFill>
                  <a:srgbClr val="000000"/>
                </a:solidFill>
                <a:latin typeface="Times New Roman"/>
              </a:rPr>
              <a:t>οι ακατάλληλες μέθοδοι διδασκαλίας και </a:t>
            </a:r>
            <a:br>
              <a:rPr sz="2800"/>
            </a:br>
            <a:r>
              <a:rPr b="0" lang="el-GR" sz="2800" spc="-1" strike="noStrike">
                <a:solidFill>
                  <a:srgbClr val="000000"/>
                </a:solidFill>
                <a:latin typeface="Times New Roman"/>
              </a:rPr>
              <a:t>οι στάσεις απέναντι στην αναπηρία που κυριαρχούν στα γενικό σχολε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a:t>
            </a:r>
            <a:br>
              <a:rPr sz="2000"/>
            </a:b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αντιλήψεις των γονιών των τυπικά αναπτυσσόμενων μαθητών, έρευνα των </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 </a:t>
            </a:r>
            <a:r>
              <a:rPr b="0" lang="el-GR" sz="2800" spc="-1" strike="noStrike">
                <a:solidFill>
                  <a:srgbClr val="000000"/>
                </a:solidFill>
                <a:latin typeface="Times New Roman"/>
              </a:rPr>
              <a:t>(2014) σε 190 γονείς, βρήκε γενικά θετικές στάσεις και αντιλήψεις απέναντι στη συμπερίληψη. Ωστόσο διαπιστώθηκαν σημαντικές διαφορές ως προς τα είδη της αναπηρίας που μπορούν να συμπεριληφθούν στο γενικό σχολείο. </a:t>
            </a:r>
            <a:br>
              <a:rPr sz="28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ήταν πιο θετικοί στη συμπερίληψη μαθητών με κινητικές αναπηρίες και </a:t>
            </a:r>
            <a:br>
              <a:rPr sz="2800"/>
            </a:br>
            <a:r>
              <a:rPr b="0" lang="el-GR" sz="2800" spc="-1" strike="noStrike">
                <a:solidFill>
                  <a:srgbClr val="000000"/>
                </a:solidFill>
                <a:latin typeface="Times New Roman"/>
              </a:rPr>
              <a:t>πιο αρνητικοί στη συμπερίληψη παιδιών με βαριές πολλαπλές αναπηρίες. </a:t>
            </a:r>
            <a:br>
              <a:rPr sz="2800"/>
            </a:br>
            <a:r>
              <a:rPr b="0" lang="el-GR" sz="2800" spc="-1" strike="noStrike">
                <a:solidFill>
                  <a:srgbClr val="000000"/>
                </a:solidFill>
                <a:latin typeface="Times New Roman"/>
              </a:rPr>
              <a:t>Διαφοροποιήσεις φάνηκαν και ως προς το φύλο και την ηλικία. Οι νέοι γονείς είχαν θετικότερες στάσεις απέναντι στη συμπερίληψη σε σχέση με τους μεγαλύτερους σε ηλικία, το ίδιο και οι μητέρες σε σχέση με τους πα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a:t>
            </a:r>
            <a:r>
              <a:rPr b="0" lang="el-GR" sz="2800" spc="-1" strike="noStrike">
                <a:solidFill>
                  <a:srgbClr val="000000"/>
                </a:solidFill>
                <a:latin typeface="Times New Roman"/>
              </a:rPr>
              <a:t>, 2014).</a:t>
            </a:r>
            <a:br>
              <a:rPr sz="2000"/>
            </a:b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ές στάσεις και αντιλήψεις απέναντι στη συμπερίληψη, κατέγραψε και έρευνα που πραγματοποιήθηκε σε 338 γονείς στη χώρα μας από τους Καλύβα, Γεωργιάδη και Τσακίρη.  Σημαντικές διαφορές διαπιστώθηκαν μόνο ως προς το φύλο. Συγκεκριμένα, οι πατεράδες εμφανίστηκαν πιο θετικοί από τις μη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eorgiadi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a:t>
            </a:r>
            <a:br>
              <a:rPr sz="2800"/>
            </a:br>
            <a:br>
              <a:rPr sz="2000"/>
            </a:b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φατικά ευρήματα για τους γονείς με παιδιά χωρίς αναπηρία, έδωσε πρόσφατη μελέτη των </a:t>
            </a:r>
            <a:r>
              <a:rPr b="0" lang="en-US" sz="2800" spc="-1" strike="noStrike">
                <a:solidFill>
                  <a:srgbClr val="000000"/>
                </a:solidFill>
                <a:latin typeface="Times New Roman"/>
              </a:rPr>
              <a:t>Dimitrova</a:t>
            </a:r>
            <a:r>
              <a:rPr b="0" lang="el-GR" sz="2800" spc="-1" strike="noStrike">
                <a:solidFill>
                  <a:srgbClr val="000000"/>
                </a:solidFill>
                <a:latin typeface="Times New Roman"/>
              </a:rPr>
              <a:t>-</a:t>
            </a:r>
            <a:r>
              <a:rPr b="0" lang="en-US" sz="2800" spc="-1" strike="noStrike">
                <a:solidFill>
                  <a:srgbClr val="000000"/>
                </a:solidFill>
                <a:latin typeface="Times New Roman"/>
              </a:rPr>
              <a:t>Radojichich </a:t>
            </a:r>
            <a:r>
              <a:rPr b="0" lang="el-GR" sz="2800" spc="-1" strike="noStrike">
                <a:solidFill>
                  <a:srgbClr val="000000"/>
                </a:solidFill>
                <a:latin typeface="Times New Roman"/>
              </a:rPr>
              <a:t>και </a:t>
            </a:r>
            <a:r>
              <a:rPr b="0" lang="en-US" sz="2800" spc="-1" strike="noStrike">
                <a:solidFill>
                  <a:srgbClr val="000000"/>
                </a:solidFill>
                <a:latin typeface="Times New Roman"/>
              </a:rPr>
              <a:t>Chichevska</a:t>
            </a:r>
            <a:r>
              <a:rPr b="0" lang="el-GR" sz="2800" spc="-1" strike="noStrike">
                <a:solidFill>
                  <a:srgbClr val="000000"/>
                </a:solidFill>
                <a:latin typeface="Times New Roman"/>
              </a:rPr>
              <a:t>-</a:t>
            </a:r>
            <a:r>
              <a:rPr b="0" lang="en-US" sz="2800" spc="-1" strike="noStrike">
                <a:solidFill>
                  <a:srgbClr val="000000"/>
                </a:solidFill>
                <a:latin typeface="Times New Roman"/>
              </a:rPr>
              <a:t>Jovanova</a:t>
            </a:r>
            <a:r>
              <a:rPr b="0" lang="el-GR" sz="2800" spc="-1" strike="noStrike">
                <a:solidFill>
                  <a:srgbClr val="000000"/>
                </a:solidFill>
                <a:latin typeface="Times New Roman"/>
              </a:rPr>
              <a:t> (2014), στην Π.Γ.Δ.Μ. </a:t>
            </a:r>
            <a:br>
              <a:rPr sz="2800"/>
            </a:br>
            <a:r>
              <a:rPr b="0" lang="el-GR" sz="2800" spc="-1" strike="noStrike">
                <a:solidFill>
                  <a:srgbClr val="000000"/>
                </a:solidFill>
                <a:latin typeface="Times New Roman"/>
              </a:rPr>
              <a:t>Αναλυτικότερα, παρόλο που οι γονείς διατύπωσαν θετικές απόψεις απέναντι στη συμπερίληψη, στην πλειοψηφία τους εξακολουθούσαν να θεωρούν ότι τα ειδικά σχολεία είναι καταλληλότερα για την φοίτηση μαθητών με αναπηρία.</a:t>
            </a:r>
            <a:br>
              <a:rPr sz="2000"/>
            </a:b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68000" y="1125000"/>
            <a:ext cx="8496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έρευνα του </a:t>
            </a:r>
            <a:r>
              <a:rPr b="0" lang="en-US" sz="2800" spc="-1" strike="noStrike">
                <a:solidFill>
                  <a:srgbClr val="000000"/>
                </a:solidFill>
                <a:latin typeface="Times New Roman"/>
              </a:rPr>
              <a:t>Martz </a:t>
            </a:r>
            <a:r>
              <a:rPr b="0" lang="el-GR" sz="2800" spc="-1" strike="noStrike">
                <a:solidFill>
                  <a:srgbClr val="000000"/>
                </a:solidFill>
                <a:latin typeface="Times New Roman"/>
              </a:rPr>
              <a:t>(2005) στη Ρωσία, δεν διαπιστώθηκαν στατιστικά σημαντικές διαφορές στις απόψεις των γονιών παιδιών με και χωρίς αναπηρίες.  </a:t>
            </a:r>
            <a:br>
              <a:rPr sz="2800"/>
            </a:br>
            <a:r>
              <a:rPr b="0" lang="el-GR" sz="2800" spc="-1" strike="noStrike">
                <a:solidFill>
                  <a:srgbClr val="000000"/>
                </a:solidFill>
                <a:latin typeface="Times New Roman"/>
              </a:rPr>
              <a:t>Οι γονείς ανέφεραν πλεονεκτήματα  αλλά  και  μειονεκτήματα  της  συμπεριληπτικής  εκπαίδευσης  αλλά εμφανίστηκαν στην πλειοψηφία τους θετικοί.</a:t>
            </a:r>
            <a:br>
              <a:rPr sz="2800"/>
            </a:br>
            <a:r>
              <a:rPr b="0" lang="el-GR" sz="2800" spc="-1" strike="noStrike">
                <a:solidFill>
                  <a:srgbClr val="000000"/>
                </a:solidFill>
                <a:latin typeface="Times New Roman"/>
              </a:rPr>
              <a:t> Παρόμοια αποτελέσματα έδωσε και παλιότερη έρευνα που σύγκρινε τις δύο ομάδες και κατέληξε ότι τόσο οι γονείς των μαθητών με αναπηρία, όσο και οι γονείς των τυπικών μαθητών είναι θετικοί απέναντι στη συμπερίληψη (</a:t>
            </a:r>
            <a:r>
              <a:rPr b="0" lang="en-US" sz="2800" spc="-1" strike="noStrike">
                <a:solidFill>
                  <a:srgbClr val="000000"/>
                </a:solidFill>
                <a:latin typeface="Times New Roman"/>
              </a:rPr>
              <a:t>Kelly </a:t>
            </a:r>
            <a:r>
              <a:rPr b="0" lang="el-GR" sz="2800" spc="-1" strike="noStrike">
                <a:solidFill>
                  <a:srgbClr val="000000"/>
                </a:solidFill>
                <a:latin typeface="Times New Roman"/>
              </a:rPr>
              <a:t>,2001).</a:t>
            </a:r>
            <a:br>
              <a:rPr sz="2800"/>
            </a:b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αναφορικά με τους παράγοντες που επηρεάζουν τις αντιλήψεις των γονιών, η βιβλιογραφία αναφέρει ανάμεσα σε άλλα, </a:t>
            </a:r>
            <a:r>
              <a:rPr b="1" i="1" lang="el-GR" sz="2800" spc="-1" strike="noStrike">
                <a:solidFill>
                  <a:srgbClr val="000000"/>
                </a:solidFill>
                <a:latin typeface="Times New Roman"/>
              </a:rPr>
              <a:t>το μορφωτικό επίπεδο των γονιών και το κοινωνικοοικονομικό τους επίπεδ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Tafa </a:t>
            </a:r>
            <a:r>
              <a:rPr b="0" lang="el-GR" sz="2800" spc="-1" strike="noStrike">
                <a:solidFill>
                  <a:srgbClr val="000000"/>
                </a:solidFill>
                <a:latin typeface="Times New Roman"/>
              </a:rPr>
              <a:t>&amp; </a:t>
            </a:r>
            <a:r>
              <a:rPr b="0" lang="en-US" sz="2800" spc="-1" strike="noStrike">
                <a:solidFill>
                  <a:srgbClr val="000000"/>
                </a:solidFill>
                <a:latin typeface="Times New Roman"/>
              </a:rPr>
              <a:t>Manolitsis</a:t>
            </a:r>
            <a:r>
              <a:rPr b="0" lang="el-GR" sz="2800" spc="-1" strike="noStrike">
                <a:solidFill>
                  <a:srgbClr val="000000"/>
                </a:solidFill>
                <a:latin typeface="Times New Roman"/>
              </a:rPr>
              <a:t>, 2003). </a:t>
            </a:r>
            <a:br>
              <a:rPr sz="2800"/>
            </a:br>
            <a:r>
              <a:rPr b="0" lang="el-GR" sz="2800" spc="-1" strike="noStrike">
                <a:solidFill>
                  <a:srgbClr val="000000"/>
                </a:solidFill>
                <a:latin typeface="Times New Roman"/>
              </a:rPr>
              <a:t>Όπως προκύπτει και από τις προαναφερθείσες έρευνες, άλλοι παράγοντες φαίνεται να είναι η ηλικία, το φύλο, η προηγούμενη εμπειρία με άτομα με ειδικές ανάγκες καθώς και το είδος και τη σοβαρότητα της  αναπηρίας  των μαθητώ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τοιοι  παράγοντες  είναι  σημαντικό  να  ερευνώνται  και  να προσδιορίζονται  για να βοηθήσουν στη δημιουργία προγραμμάτων παρέμβασης που θα βελτιώσουν τις αντιλήψεις των γονιών και θα προωθήσουν την ομαλότερη και αποτελεσματικότερη εφαρμογή της συμπεριληπτικής εκπαίδευσης.</a:t>
            </a:r>
            <a:br>
              <a:rPr sz="28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3200"/>
            </a:br>
            <a:br>
              <a:rPr sz="3200"/>
            </a:br>
            <a:br>
              <a:rPr sz="2000"/>
            </a:br>
            <a:br>
              <a:rPr sz="2000"/>
            </a:b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Ρήγα και Ζυγούρη (2017), η οικογένεια είναι ένα σύστημα και ένα πλαίσιο σχέσεων το οποίο μπορεί να αναπτύξει έναν ενισχυτικό ρόλο τόσο σε πιθανή επιβάρυνση όσο και σε μια θετική λύση του εκάστοτε ζητήματος.</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Ζώνιου – Σιδέρη (1998), ο ερχομός ενός παιδιού με ειδικές εκπαιδευτικές ανάγκες αλλάζει τον τρόπο ζωής της οικογένειας σε πολλά επίπεδα, δεδομένου ότι τα μέλη της οικογένειας έρχονται αντιμέτωπα με μια διαφορετική κατάσταση εφ’ όρου ζωής.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ρχικά, οι αντιδράσεις και τα αισθήματα των γονέων ως προς την αναγνώριση και την αποδοχή του παιδιού διακατέχονται από άρνηση. </a:t>
            </a:r>
            <a:br>
              <a:rPr sz="2800"/>
            </a:b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Kutner</a:t>
            </a:r>
            <a:r>
              <a:rPr b="0" lang="el-GR" sz="2800" spc="-1" strike="noStrike">
                <a:solidFill>
                  <a:srgbClr val="000000"/>
                </a:solidFill>
                <a:latin typeface="Times New Roman"/>
              </a:rPr>
              <a:t> (1975), όπως αναφέρουν οι Ρήγα &amp; Ζυγούρης (2017), οι γονείς συνήθως, επέρχονται σε κατάσταση σοκ, άγχους ή σύγχυσης, άρνησης της παθογένειας του παιδιού, απάρνηση του παιδιού, κριτική ή μη αποδοχή της διάγνωσης.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ρνητικά αυτά συναισθήματα, συνήθως, </a:t>
            </a:r>
            <a:br>
              <a:rPr sz="2800"/>
            </a:br>
            <a:r>
              <a:rPr b="0" lang="el-GR" sz="2800" spc="-1" strike="noStrike">
                <a:solidFill>
                  <a:srgbClr val="000000"/>
                </a:solidFill>
                <a:latin typeface="Times New Roman"/>
              </a:rPr>
              <a:t>οδηγούν σε προβλήματα μεταξύ των σχέσεων των γονέων. </a:t>
            </a:r>
            <a:br>
              <a:rPr sz="2800"/>
            </a:br>
            <a:r>
              <a:rPr b="0" lang="el-GR" sz="2800" spc="-1" strike="noStrike">
                <a:solidFill>
                  <a:srgbClr val="000000"/>
                </a:solidFill>
                <a:latin typeface="Times New Roman"/>
              </a:rPr>
              <a:t>Σύμφωνα με την Πολυχρονοπούλου (1995), όπως αναφέρουν οι Γελαστοπούλου και Μουταβελής (2017), ένας γονέας έχει ασταθή συμπεριφορά η οποία συνήθως χαρακτηρίζεται από συναισθήματα </a:t>
            </a:r>
            <a:br>
              <a:rPr sz="2800"/>
            </a:br>
            <a:r>
              <a:rPr b="0" lang="el-GR" sz="2800" spc="-1" strike="noStrike">
                <a:solidFill>
                  <a:srgbClr val="000000"/>
                </a:solidFill>
                <a:latin typeface="Times New Roman"/>
              </a:rPr>
              <a:t>όπως απόρριψη, ενοχή, τύψη αλλά και αγάπη.</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23640" y="1052280"/>
            <a:ext cx="835164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αναφέρει η Ζώνιου – Σιδέρη (1998), ανάλογα το επίπεδο αναπηρίας, ο πατέρας ασχολείται λιγότερο, ενώ η μητέρα είναι εκείνη η οποία επωμίζεται όλη την ευθύνη. Ωστόσο, σύμφωνα με τον </a:t>
            </a:r>
            <a:r>
              <a:rPr b="0" lang="en-US" sz="2800" spc="-1" strike="noStrike">
                <a:solidFill>
                  <a:srgbClr val="000000"/>
                </a:solidFill>
                <a:latin typeface="Times New Roman"/>
              </a:rPr>
              <a:t>Dale</a:t>
            </a:r>
            <a:r>
              <a:rPr b="0" lang="el-GR" sz="2800" spc="-1" strike="noStrike">
                <a:solidFill>
                  <a:srgbClr val="000000"/>
                </a:solidFill>
                <a:latin typeface="Times New Roman"/>
              </a:rPr>
              <a:t> (1996), όπως αναφέρουν οι Γελαστοπούλου και Μουταβελής (2017),οικογένειες παιδιών με ειδικές εκπαιδευτικές ανάγκες, ανεξάρτητα από το κοινωνικό-οικονομικό τους επίπεδο, φαίνεται να διαχειρίζονται καλύτερα το άγχος της καθημερινότητάς τους λόγω ενός ευρύτερου κοινωνικού και οικογενειακού δικτύου που τους πλαισιώνει παρέχοντας τους υποστήριξη.</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Stoiber</a:t>
            </a:r>
            <a:r>
              <a:rPr b="0" lang="el-GR" sz="2800" spc="-1" strike="noStrike">
                <a:solidFill>
                  <a:srgbClr val="000000"/>
                </a:solidFill>
                <a:latin typeface="Times New Roman"/>
              </a:rPr>
              <a:t> (1992), </a:t>
            </a:r>
            <a:br>
              <a:rPr sz="2800"/>
            </a:br>
            <a:r>
              <a:rPr b="0" lang="el-GR" sz="2800" spc="-1" strike="noStrike">
                <a:solidFill>
                  <a:srgbClr val="000000"/>
                </a:solidFill>
                <a:latin typeface="Times New Roman"/>
              </a:rPr>
              <a:t>οι στάσεις και οι αντιλήψεις των γονέων για την ένταξη των ατόμων με ειδικές εκπαιδευτικές ανάγκες βασίζονται σε προσωπικές τους εμπειρίες και τείνουν να χαρακτηρίζονται θετικές και ικανοποιητικές. </a:t>
            </a:r>
            <a:br>
              <a:rPr sz="2800"/>
            </a:br>
            <a:br>
              <a:rPr sz="2800"/>
            </a:br>
            <a:r>
              <a:rPr b="0" lang="el-GR" sz="2800" spc="-1" strike="noStrike">
                <a:solidFill>
                  <a:srgbClr val="000000"/>
                </a:solidFill>
                <a:latin typeface="Times New Roman"/>
              </a:rPr>
              <a:t>Ωστόσο, η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έδειξε ότι κάποιοι γονείς των συγκεκριμένων ατόμων προτιμούσαν τη φοίτηση των παιδιών τους σε γενικά σχολεία ενώ άλλοι προτιμούσαν τα ειδικά σχολεία, λόγω εξειδικευμένου προσωπικού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ξιοσημείωτο είναι το γεγονός ότι πολλές φορές το περιβάλλον το οποίο κτίζεται γύρω από το άτομο με ειδικές εκπαιδευτικές ανάγκες είναι υπερπροστατευτικό, με συνέπεια να μην προάγεται η αυτονομία και η ανεξαρτητοποίηση, όπου είναι εφικτό, του παιδιού. </a:t>
            </a:r>
            <a:br>
              <a:rPr sz="2800"/>
            </a:br>
            <a:r>
              <a:rPr b="0" lang="el-GR" sz="2800" spc="-1" strike="noStrike">
                <a:solidFill>
                  <a:srgbClr val="000000"/>
                </a:solidFill>
                <a:latin typeface="Times New Roman"/>
              </a:rPr>
              <a:t>Το άτομο με ειδικές εκπαιδευτικές ανάγκες πρέπει να μεγαλώνει σε ένα υγιές «φυσιολογικό» περιβάλλον (Κυπριωτάκης, 2001).</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ημαντικό ρόλο έχουν, επίσης, και τα αδέρφια των παιδιών με ειδικές εκπαιδευτικές ανάγκες. Οι γονείς αφιερώνουν μεγάλο χρόνο στα παιδιά με αναπηρία, με αποτέλεσμα τα αδέρφια τους να επωμίζονται ευθύνες από πολύ μικρή ηλικία. </a:t>
            </a:r>
            <a:br>
              <a:rPr sz="2800"/>
            </a:br>
            <a:r>
              <a:rPr b="0" lang="el-GR" sz="2800" spc="-1" strike="noStrike">
                <a:solidFill>
                  <a:srgbClr val="000000"/>
                </a:solidFill>
                <a:latin typeface="Times New Roman"/>
              </a:rPr>
              <a:t>Πολλές φορές, νιώθουν θυμό και ζήλια αλλά ταυτόχρονα τους διακατέχουν και ενοχές για αυτά τους τα συναισθήματα, ενώ κάποιες έρευνες έδειξαν ότι τα παιδιά μπορεί να έχουν και θετικά συναισθήματα.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ά, οι αντιλήψεις και οι στάσεις των αδερφών των παιδιών με ειδικές εκπαιδευτικές ανάγκες εξαρτώνται από τη στάση των ίδιων τους των γονιών. Όσο πιο αντικειμενική και  «ανοικτή» σε θέματα συζήτησης είναι η στάση των γονιών σχετικά με τις ειδικές εκπαιδευτικές ανάγκες του παιδιού, τόσο και πιο θετική είναι και η στάση των αδερφών (Ζώνιου –Σιδέρη, 1998).</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2000"/>
            </a:br>
            <a:br>
              <a:rPr sz="2000"/>
            </a:br>
            <a:br>
              <a:rPr sz="1400"/>
            </a:br>
            <a:br>
              <a:rPr sz="1400"/>
            </a:b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οικογένεια γνωρίζει  πλευρές  της  προσωπικότητας  αλλά  και  της  συμπεριφοράς  του παιδιού καλύτερα από οποιονδήποτε άλλον και μπορεί να παρέχει πληροφορίες για το παιδί στις  οποίες  κανείς  άλλος  δεν  έχει  πρόσβα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rel</a:t>
            </a:r>
            <a:r>
              <a:rPr b="0" lang="el-GR" sz="2800" spc="-1" strike="noStrike">
                <a:solidFill>
                  <a:srgbClr val="000000"/>
                </a:solidFill>
                <a:latin typeface="Times New Roman"/>
              </a:rPr>
              <a:t>,  2012).  </a:t>
            </a:r>
            <a:br>
              <a:rPr sz="2800"/>
            </a:br>
            <a:r>
              <a:rPr b="0" lang="el-GR" sz="2800" spc="-1" strike="noStrike">
                <a:solidFill>
                  <a:srgbClr val="000000"/>
                </a:solidFill>
                <a:latin typeface="Times New Roman"/>
              </a:rPr>
              <a:t>Κατά  συνέπεια  οι  γονείς αποτελούν σημαντικά πρόσωπα και παίζουν σημαντικό ρόλο στην εφαρμογή και την επιτυχία της συμπεριληπτικής εκπαίδευσης (</a:t>
            </a:r>
            <a:r>
              <a:rPr b="0" lang="en-US" sz="2800" spc="-1" strike="noStrike">
                <a:solidFill>
                  <a:srgbClr val="000000"/>
                </a:solidFill>
                <a:latin typeface="Times New Roman"/>
              </a:rPr>
              <a:t>Leyser </a:t>
            </a:r>
            <a:r>
              <a:rPr b="0" lang="el-GR" sz="2800" spc="-1" strike="noStrike">
                <a:solidFill>
                  <a:srgbClr val="000000"/>
                </a:solidFill>
                <a:latin typeface="Times New Roman"/>
              </a:rPr>
              <a:t>&amp; </a:t>
            </a:r>
            <a:r>
              <a:rPr b="0" lang="en-US" sz="2800" spc="-1" strike="noStrike">
                <a:solidFill>
                  <a:srgbClr val="000000"/>
                </a:solidFill>
                <a:latin typeface="Times New Roman"/>
              </a:rPr>
              <a:t>Kirk</a:t>
            </a:r>
            <a:r>
              <a:rPr b="0" lang="el-GR" sz="2800" spc="-1" strike="noStrike">
                <a:solidFill>
                  <a:srgbClr val="000000"/>
                </a:solidFill>
                <a:latin typeface="Times New Roman"/>
              </a:rPr>
              <a:t>, 2004).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00" name="Picture 9" descr=""/>
          <p:cNvPicPr/>
          <p:nvPr/>
        </p:nvPicPr>
        <p:blipFill>
          <a:blip r:embed="rId1"/>
          <a:stretch/>
        </p:blipFill>
        <p:spPr>
          <a:xfrm>
            <a:off x="0" y="0"/>
            <a:ext cx="9144000" cy="1368360"/>
          </a:xfrm>
          <a:prstGeom prst="rect">
            <a:avLst/>
          </a:prstGeom>
          <a:ln w="0">
            <a:noFill/>
          </a:ln>
        </p:spPr>
      </p:pic>
      <p:pic>
        <p:nvPicPr>
          <p:cNvPr id="801" name="Picture 10" descr=""/>
          <p:cNvPicPr/>
          <p:nvPr/>
        </p:nvPicPr>
        <p:blipFill>
          <a:blip r:embed="rId2"/>
          <a:stretch/>
        </p:blipFill>
        <p:spPr>
          <a:xfrm>
            <a:off x="1258920" y="2060640"/>
            <a:ext cx="1297080" cy="1528560"/>
          </a:xfrm>
          <a:prstGeom prst="rect">
            <a:avLst/>
          </a:prstGeom>
          <a:ln w="0">
            <a:noFill/>
          </a:ln>
        </p:spPr>
      </p:pic>
      <p:pic>
        <p:nvPicPr>
          <p:cNvPr id="802" name="12 - Εικόνα" descr=""/>
          <p:cNvPicPr/>
          <p:nvPr/>
        </p:nvPicPr>
        <p:blipFill>
          <a:blip r:embed="rId3"/>
          <a:stretch/>
        </p:blipFill>
        <p:spPr>
          <a:xfrm>
            <a:off x="6948360" y="1989000"/>
            <a:ext cx="1444680" cy="1573200"/>
          </a:xfrm>
          <a:prstGeom prst="rect">
            <a:avLst/>
          </a:prstGeom>
          <a:ln w="0">
            <a:noFill/>
          </a:ln>
        </p:spPr>
      </p:pic>
      <p:sp>
        <p:nvSpPr>
          <p:cNvPr id="803"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0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640" y="1392120"/>
            <a:ext cx="806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υποστήριξη και η εμπλοκή όλων των γονιών είναι απαραίτητη παράμετρος στην υλοποίηση της συμπερίληψης. </a:t>
            </a:r>
            <a:br>
              <a:rPr sz="2800"/>
            </a:br>
            <a:r>
              <a:rPr b="0" lang="el-GR" sz="2800" spc="-1" strike="noStrike">
                <a:solidFill>
                  <a:srgbClr val="000000"/>
                </a:solidFill>
                <a:latin typeface="Times New Roman"/>
              </a:rPr>
              <a:t>Οι γονείς διακρίνονται σε δύο μεγάλες κατηγορίες που συχνά στις έρευνες εμφανίζουν διαφορετικά χαρακτηριστικά, </a:t>
            </a:r>
            <a:br>
              <a:rPr sz="2800"/>
            </a:br>
            <a:r>
              <a:rPr b="0" i="1" lang="el-GR" sz="2800" spc="-1" strike="noStrike">
                <a:solidFill>
                  <a:srgbClr val="000000"/>
                </a:solidFill>
                <a:latin typeface="Times New Roman"/>
              </a:rPr>
              <a:t>τους γονείς των μαθητών με αναπηρία και </a:t>
            </a:r>
            <a:br>
              <a:rPr sz="2800"/>
            </a:br>
            <a:r>
              <a:rPr b="0" i="1" lang="el-GR" sz="2800" spc="-1" strike="noStrike">
                <a:solidFill>
                  <a:srgbClr val="000000"/>
                </a:solidFill>
                <a:latin typeface="Times New Roman"/>
              </a:rPr>
              <a:t>τους γονείς των μαθητών τυπικής ανάπτυξη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92120"/>
            <a:ext cx="8137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 γονείς παιδιών με νοητική αναπηρία, σε έρευνα που πραγματοποιήθηκε από τους </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και </a:t>
            </a:r>
            <a:r>
              <a:rPr b="0" lang="en-US" sz="2800" spc="-1" strike="noStrike">
                <a:solidFill>
                  <a:srgbClr val="000000"/>
                </a:solidFill>
                <a:latin typeface="Times New Roman"/>
              </a:rPr>
              <a:t>Widama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πλειοψηφία εμφανίστηκε θετική απέναντι στη συμπερίληψη και αναγνώρισε οφέλη για τους μαθητές με αναπηρίες όσο και για τους μαθητές τυπικής ανάπτυξης, ιδιαίτερα στον κοινωνικό τομέα, καθώς  μέσω της συμπερίληψης προάγεται η αποδοχή στη διαφορετικότητα  και η κοινωνικοποίηση.</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εκφράστηκαν ανησυχίες για την δυνατότητα των παιδιών να λαμβάνουν στο γενικό σχολείο την εξατομικευμένη εκπαίδευση που έχουν ανάγκη και που ενδεχομένως θα λάμβαναν στο ειδικό σχολείο</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amp; </a:t>
            </a:r>
            <a:r>
              <a:rPr b="0" lang="en-US" sz="2800" spc="-1" strike="noStrike">
                <a:solidFill>
                  <a:srgbClr val="000000"/>
                </a:solidFill>
                <a:latin typeface="Times New Roman"/>
              </a:rPr>
              <a:t>Widaman</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οί απέναντι στη συμπερίληψη </a:t>
            </a:r>
            <a:br>
              <a:rPr sz="2800"/>
            </a:br>
            <a:r>
              <a:rPr b="0" lang="el-GR" sz="2800" spc="-1" strike="noStrike">
                <a:solidFill>
                  <a:srgbClr val="000000"/>
                </a:solidFill>
                <a:latin typeface="Times New Roman"/>
              </a:rPr>
              <a:t>εμφανίστηκαν οι γονείς των παιδιών με αναπηρία </a:t>
            </a:r>
            <a:br>
              <a:rPr sz="2800"/>
            </a:br>
            <a:r>
              <a:rPr b="0" lang="el-GR" sz="2800" spc="-1" strike="noStrike">
                <a:solidFill>
                  <a:srgbClr val="000000"/>
                </a:solidFill>
                <a:latin typeface="Times New Roman"/>
              </a:rPr>
              <a:t>και σε άλλη έρευνα που διεξήχθη από τους </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και </a:t>
            </a:r>
            <a:r>
              <a:rPr b="0" lang="en-US" sz="2800" spc="-1" strike="noStrike">
                <a:solidFill>
                  <a:srgbClr val="000000"/>
                </a:solidFill>
                <a:latin typeface="Times New Roman"/>
              </a:rPr>
              <a:t>Jobling </a:t>
            </a:r>
            <a:r>
              <a:rPr b="0" lang="el-GR" sz="2800" spc="-1" strike="noStrike">
                <a:solidFill>
                  <a:srgbClr val="000000"/>
                </a:solidFill>
                <a:latin typeface="Times New Roman"/>
              </a:rPr>
              <a:t>(2003). </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γονείς  αναγνώρισαν στα θετικά στοιχεία της  συμπεριληπτικής  εκπαίδευσης   </a:t>
            </a:r>
            <a:br>
              <a:rPr sz="2800"/>
            </a:br>
            <a:r>
              <a:rPr b="0" lang="el-GR" sz="2800" spc="-1" strike="noStrike">
                <a:solidFill>
                  <a:srgbClr val="000000"/>
                </a:solidFill>
                <a:latin typeface="Times New Roman"/>
              </a:rPr>
              <a:t>τις ευκαιρίες για αλληλεπίδραση και φιλία ανάμεσα στους μαθητές, </a:t>
            </a:r>
            <a:br>
              <a:rPr sz="2800"/>
            </a:br>
            <a:r>
              <a:rPr b="0" lang="el-GR" sz="2800" spc="-1" strike="noStrike">
                <a:solidFill>
                  <a:srgbClr val="000000"/>
                </a:solidFill>
                <a:latin typeface="Times New Roman"/>
              </a:rPr>
              <a:t>την κατανόηση και την ανοχή απέναντι στην αναπηρία για τους μαθητές τυπικής ανάπτυξης αλλά και </a:t>
            </a:r>
            <a:br>
              <a:rPr sz="2800"/>
            </a:br>
            <a:r>
              <a:rPr b="0" lang="el-GR" sz="2800" spc="-1" strike="noStrike">
                <a:solidFill>
                  <a:srgbClr val="000000"/>
                </a:solidFill>
                <a:latin typeface="Times New Roman"/>
              </a:rPr>
              <a:t>τις ευκαιρίες για μίμηση θετικών συμπεριφορών για τους μαθητές με αναπηρ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amp; </a:t>
            </a:r>
            <a:r>
              <a:rPr b="0" lang="en-US" sz="2800" spc="-1" strike="noStrike">
                <a:solidFill>
                  <a:srgbClr val="000000"/>
                </a:solidFill>
                <a:latin typeface="Times New Roman"/>
              </a:rPr>
              <a:t>Jobling</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ραπάνω συμπεράσματα ενισχύουν και τα αποτελέσματα πιο πρόσφατης μελέτης των </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 </a:t>
            </a:r>
            <a:r>
              <a:rPr b="0" lang="el-GR" sz="2800" spc="-1" strike="noStrike">
                <a:solidFill>
                  <a:srgbClr val="000000"/>
                </a:solidFill>
                <a:latin typeface="Times New Roman"/>
              </a:rPr>
              <a:t>και </a:t>
            </a:r>
            <a:r>
              <a:rPr b="0" lang="en-US" sz="2800" spc="-1" strike="noStrike">
                <a:solidFill>
                  <a:srgbClr val="000000"/>
                </a:solidFill>
                <a:latin typeface="Times New Roman"/>
              </a:rPr>
              <a:t>Patsiaouras </a:t>
            </a:r>
            <a:r>
              <a:rPr b="0" lang="el-GR" sz="2800" spc="-1" strike="noStrike">
                <a:solidFill>
                  <a:srgbClr val="000000"/>
                </a:solidFill>
                <a:latin typeface="Times New Roman"/>
              </a:rPr>
              <a:t>(2008), σε γονείς μαθητών με αναπηρία. </a:t>
            </a:r>
            <a:br>
              <a:rPr sz="2800"/>
            </a:br>
            <a:r>
              <a:rPr b="0" lang="el-GR" sz="2800" spc="-1" strike="noStrike">
                <a:solidFill>
                  <a:srgbClr val="000000"/>
                </a:solidFill>
                <a:latin typeface="Times New Roman"/>
              </a:rPr>
              <a:t>Παρά τις ανησυχίες που εξέφρασαν για την κοινωνική αποδοχή των παιδιών τους και την ποιότητα των παρεχόμενων υπηρεσιών στο γενικό σχολείο, στην πλειοψηφία τους είχαν θετική τάση απέναντι στην συμπερίληψη. </a:t>
            </a:r>
            <a:br>
              <a:rPr sz="28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6:28Z</dcterms:modified>
  <cp:revision>150</cp:revision>
  <dc:subject/>
  <dc:title>Παρουσίαση του PowerPoint</dc:title>
</cp:coreProperties>
</file>